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C31-02ED-4421-AFD6-E2CD66BA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699-34EB-4EC1-A5A2-7C1FB5B6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0B27C-37E3-40DB-BCC2-31EC0BC7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5C4B6-C762-485C-A017-C0C59E0E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139C6-8750-4D2D-9672-A12E17BA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003B3-3C68-47AE-85FE-553FC5E2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7635B-C1B4-41B0-81C2-4E656121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40B7D-7CA4-4C26-93ED-F47421DA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A56FC-B6C0-430C-9E60-F33113FB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6F491-FEA2-4E2E-B438-A4D32FCB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45D11-4129-414B-AADA-D31AFE40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47FA9-2EF9-45BC-BAF1-01F9BDA8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A1D-D524-4B63-9021-F134C958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68367-7BF2-4B65-8787-1CC5C9E8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8E2CC-B236-4AF4-939B-1203ABF6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4FB04-B1FA-425C-BFA6-A305D4D4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0EA81-1829-4219-B489-0C67DE81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BACBE-626E-4348-9C18-C05EE8D5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5C0FF-A676-49D1-8E68-6B7409A4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8D01F-04A7-48CF-9A9F-D20EB2B2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EC2E6-C188-48D1-BD91-EEED8F30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5922F-6895-4C67-A69D-4F136EAC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F7287-2968-4F5E-8C31-3C4E12BC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9CA-8F8B-42FE-B0F6-D39E8D5F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71B14-C43F-4850-9989-8871D196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7441E-89FD-4076-99F1-776AAF76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042A8-9738-4340-9247-2D337531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C24D1-D162-4BD9-806B-3A570E5F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EFFDC-E954-4AF3-8B22-7C2D6093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A3F97-DCE2-4ABB-9305-377320CE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D97AF-82A1-4C38-BE9D-6A4042DB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E893F-51E7-404F-9E39-112DE9F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17F3D-7508-4227-BE32-D509F48A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B0E2B-2CF9-46BC-8CF1-2412774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12E1-FA98-460E-A847-88A3A923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7B5EB-DF3F-4D2B-B209-C6FABD98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42A99-BA81-4D18-B161-D35B0A7D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5B3D1-5A95-4098-B46F-3CB8B58F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45605-D9E4-4380-8FFF-A283B8BB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084D8-71B7-4EE6-819F-D8418EA9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BB182-CF9F-4111-9451-37400265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3AE55-ACEE-4A52-8F28-D0511A5B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27FAE-65F2-49CA-AE83-26EFD45D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2E55B-3661-4C79-B72F-8FB97F2D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BF97F-357E-4C5C-ABD0-16DD8514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D428-FBA8-457E-BEA7-478C0586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1F038-57B4-41CE-9AF4-C25D953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52652-8CAA-42E5-8E41-0EB606DC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A8098-E896-431D-808E-9605C70C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5BB5B-941A-4591-A227-F4190255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6463E-21EB-469D-9D09-83B4941E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55D84-3CE6-4AF2-994E-B6E05FD9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F0D85-DA8E-44C6-AC1C-B77C4E0A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35B0B-068F-4588-8527-9EF79167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6E4E5-4D3C-4E52-AC40-5053BB34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7DA14-C262-4059-8D94-F8C628A2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4682-816C-478C-9E5F-E03FFD8B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F3078-2099-4158-BDDD-20E7A3F2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6468B-DBCC-4C02-B29A-4F5B7AAC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1CF04-1185-49F5-910F-E19715F1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A5B7E-D00C-4889-AA4A-AA756359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88460-7FB5-4305-99E5-DA445F06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59221-054E-4036-901F-ECF0B36F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DA1CE-19C9-428B-A0E8-395915F7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515BC-47B8-4F25-8E8F-9C8C2482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6F669-1B5A-4509-B46A-44A9F563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6E190-B75D-4E09-A05C-8A56EA96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D178-BABA-4AAB-B4F3-226A31EE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60099-F944-433F-A788-0574A4CF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4331A-B071-4B95-AA0A-1CD270ED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96D8A-9075-4DC1-B920-59371502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8E454-13A5-44AC-8FEB-31FF7305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CF2C2-2DC2-48CE-8954-5CC74C57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6B155-8973-4A17-8D16-EC7986FD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312B2-0684-43AD-B5EE-C1D3CB0F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6B231-3636-492C-A019-8B1D6756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479EA-0882-4AFB-8A55-C8DE262A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4AAE5-9907-4A7D-B768-0ED38336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AF24-F4A7-47A8-BF6C-4128A57B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4F7D7-39B5-4FA4-978F-10B42F78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96B022-776A-4063-80BA-C5640058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11B79-048D-4D43-8FFB-F0473D7F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DCAD9-E059-4796-BA46-9A0E8E6D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E95AD-8E70-478F-8927-CB6EDAFC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B5787-8A89-4A7F-BBBA-E994AA29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82BDC-68EC-4419-80E4-B8643A7D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4FE8D-3E53-41E4-8ABE-8F5C50E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D9573-54EB-44F9-B5D2-920105B8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6238D-1C8A-42B4-B7DF-09C0A34E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7C9C-0575-4F61-9EF6-8C78C6C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4CA3B-13C7-403E-A683-286A5803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7D3BA-D430-4D3A-98BC-57EF5D7D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44648-B2DF-4E99-95C0-02893CA6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D2559-4FCB-4114-B7DB-6761CD66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4BC453-CDA4-4AF3-8D57-E96D9202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1D108-022F-4B16-8ECF-A7BC6086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EC16B9-9FA4-4B8E-A8B8-28D06B49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85FE5-1A13-4C62-B009-273D30BC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969F8-64D5-4568-8484-92E91F5C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EDFA8-4099-4855-A610-227E38F6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78C5-9E94-42E1-8475-672C821F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4E5D6-435E-4B49-893C-6AC97D34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B2537-C946-4676-910B-E5AB73C3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89356-7051-4BA5-9F2E-19E1B4E8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F319DC-2F59-4198-B380-33E77CFA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63219-FD18-447C-97A4-C8584376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9DE54-8DED-4283-850A-80139129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B6C16-23E0-460C-BEC2-404099B2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3B30E-47DC-4A53-A22C-74D23D5D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E1999F-5AD9-46EF-A9B2-3D02E8BD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49ADE-D1C3-4FFB-A5C0-34B3854F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5E4-B802-4D64-AA7D-B121FF5A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580F-5644-4CAF-AD48-F5781F6D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36765-3811-42DB-97C3-4795F5F1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EC7CA7-D16C-48A1-B0FE-4730D183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C989E-C5F6-43C7-B12E-2AEB784E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74AE23-CAE9-414A-B3EF-07584838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ECE4A-460E-474E-A537-0DC8F279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22272-7C35-4F79-8AA1-44AE7E84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37D0E8-5ED7-44B4-8BFB-CA91B009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68882-D0A0-4C97-8F0E-382455CF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2D6341-883F-44E6-9695-298F71C8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A7D66-1F19-47E6-BE36-4168D01A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23BA-66C0-4AC1-9BD5-01CF846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6E0CB9-3DC3-4A3B-9DB0-FDFED4BE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A603A8-833E-4C9F-B1B2-7E0ACEE7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472EB5-E658-40CD-936A-77B20CA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500D4-ED5C-46AA-83EC-8D80D828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5394C8-B8A7-41F6-B4A0-3E479764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FD870-9C90-46D9-BB11-CC3E3AEB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9C59D-5301-4E74-BD10-17FF0775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6A2202-F48B-46BD-9447-975D549C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68CABB-859B-4467-9467-076D49A7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4A557-2009-4643-9EEA-412535F4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D39D-BA90-47CE-B37A-4B796D0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6BBE52-7F1E-46F9-B385-9C9C97E4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0449D8-011B-44D8-87FD-89C264B8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AE22FB-E8FF-4A7B-BF71-86A7135F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B4D38-074A-48E5-A3F0-2A7CB6A8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783C4-3A8F-493F-9B43-63F583D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6C6585-EC4E-4854-BFC5-FA7850DE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7552E5-0631-4674-A8ED-3C5792C7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3EA06-9CE9-4ACF-B0FD-ABC8FF8D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154C2D-72D8-4897-8571-4C665B07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6928A3-62A4-49B4-AA7C-CD801F9E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B8AF-BA47-4BBC-80BA-98CB1BFD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7AC60B-FBD4-46BD-9A93-57E650EB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4DE49-9143-409E-9E25-0F43D726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91D744-A8B7-4ABB-A6CB-20178948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28AE44-2D3E-4F9C-83B5-9F2DB574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133FB-320B-4113-95B9-F9B3B94B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E15A2D-8F89-4631-BB92-C2E8DCD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2A9D9-5B8A-41DE-86A1-151C2AC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19BB07-02E6-4ADF-A9F9-F53793D1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C54437-9C99-4261-8D76-C60DBC19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E88B2-3301-4631-9728-8ED43287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7F66-9889-4B86-AF88-09D8AB6B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514863-5980-4665-9E50-1EA92EC1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44E77-E4AC-42C3-8CB8-DD6793BF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55E550-86ED-473C-8116-3E81C297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CF8ADD-7A9B-4921-B0C2-CC6B0D9F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34BF2-5C44-4A11-B522-0EBDD881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CC9EA5-7A5F-4AA9-870E-347CB41B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B20DAE-AB4C-43D0-BC1E-A7B94F37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77ADBA-367F-49E9-8045-212BB9C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12B5F4-7916-4F07-A549-252AC28D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5F23C5-8D14-408B-AA29-F3C8F25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7637-ED88-4F7A-A741-A04A1262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7FE42-30A7-442B-87A1-BC948839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443ABF-44C4-410D-ABEC-02273074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62AAF2-1219-41C9-BA21-22BFD5BE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17FB-36DD-485B-8B5B-F870F938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5C49-195B-4894-9FA7-D54F4D80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7ED1-DEFB-4E6B-8F0A-0BF5680F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6493-3B12-4CFB-9092-26276831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CC1-F05C-4745-8C45-0774A882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BCAB5-2CBF-485E-BD47-1B07BEFB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5937-ED42-41B0-834B-E471AF07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E7CB-7D34-4FD2-B0F5-F1A2D2C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A015-FDFD-4217-AF45-20598897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B7D7-7CD1-4116-91D7-FBC7BA3F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C55C-C23B-47AB-A059-AB3FEDEB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8E2E-C8E1-4036-80DC-0E49B6B1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9903-347F-4573-B699-4B232B17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33150-3746-4B50-87DF-D1432868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804D-BBD9-4A8E-AB7E-655F6AA6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0B2-1FE6-40A1-9CB1-CF4A635F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00042-33AE-48B3-8569-F7D8207D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815FC-DEB5-4D5B-B393-CF3DBE07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E5789-D0A2-4DC2-9FC8-962CA374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C995C-635F-4BD8-9441-3D2E7C3B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05B2E-9A35-4036-B146-454C32A4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1722-5E62-4FF2-BFB7-907F0CD8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07F4-D984-4665-B697-BA0F2C7F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ED06F-689E-49E7-B7EC-9D7849FD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A68F4-E1A9-4F69-B543-0A4327B3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8F7ED-2E41-4E36-8BE6-423020DD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4AF-2D95-4618-8777-E21B1E36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7893F-F717-48B3-9B41-291694C3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42E09-F2A6-4A30-B481-1130887E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F5118-4173-419D-9AFE-6F49D7E3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295DA-19C1-4BC3-87A4-02F73D02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EC4C8-0001-4067-8510-364F2274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B7AE2-4B28-4E9A-9433-F4382DD6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F8BC9-5D98-46C7-AFC8-AC6517A9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E6357-6575-475F-AADE-071C0D5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20942-82E0-4E92-BDCF-014CA3EC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882C5-7141-43DD-8998-8C81957C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325-5742-4766-B404-AA3B3E54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E9EDA-6FF8-4A16-B0D2-BE17390D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CB865-80A9-4149-B3CC-F3EB68D7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A98C5-4CD9-47EA-BFAC-017B6EF1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A2C92-567C-4021-958F-6738053E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91C82-1C7A-4219-8440-68D33720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9AE6F-CC7F-4277-B29A-6BC397F9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CC96-C576-4E12-A299-530CA192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975A8-9CF8-4EA7-9EAE-93AF56D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234E3-C49C-4D0B-93DE-A7828C94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924F3-31FA-42FF-A997-68F0CD49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289-98EF-4F3B-934E-ECF6BF8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228D-09B6-4C1B-8C73-6C0CB2A5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07C1C-0425-4963-B6F4-D2ED6B62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81DA7-95FB-4C23-B326-F22A4212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0F6B5-CD37-4F42-9E63-B5F7F1E1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3A716-95CA-4E8E-BB2D-9B3CECD6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10B63-DC46-40EE-B26D-1AF22854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57A9F-40D2-4839-9DBF-6329CE8E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CA21-C369-4CAB-882C-4B7CDF1A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7A783-2BCB-40CB-B6F0-5B795C50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5C055-A005-45CC-B0A2-9A608282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338-3048-43CE-902C-A75BBF3B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8AEFB-B2DD-4D2D-B7C3-44028210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EB6AC-3B9B-4B49-9C9D-2DA54FD7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EEBB0-E550-4922-91AB-599A18E4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C50E8-961F-4C5C-AB12-A9FC504F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7E69C-76C3-4FB9-886F-07E35E7B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698D1-7D15-4FAC-B74D-47B0F65C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138FA-F09D-469E-89EF-7DD1968C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4E16E-DCDB-48D9-A80B-4850B426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11A23-E5CA-4694-BE4B-192A3C9A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1FF1F-297E-4253-B8FB-DA3E3819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13E-B237-4EC3-81AA-953E888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640B6-3B13-4570-8691-04058CB6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7150A-1A91-4B6A-A5A3-EFC0E3E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6459A-F0E0-4C0C-AFD3-A9C077B4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AE10F-6C4F-4D7E-9EBC-C8255A7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5452D-3EE9-4D1D-899C-1E82AC3C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82FEE-CDA3-4D4E-8E9C-13CCD0CF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30080-0E51-48A7-88C5-0A5FFF6D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16688-5B19-484D-9B3D-431D55C0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8FE71-C269-4EAA-935A-08A7014A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AEFA8-49E3-4025-A1FF-D288A597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6C40-BDD4-4D6E-879F-1C2ECA6A4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DF87-100B-4F6C-B95C-02E5167A90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71AC-FBD9-4388-934A-B861449A30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7354-F36E-4884-B2A7-7CDC2F4F74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CC25-D179-4695-B0A1-6BF7A62D32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5105-F341-4E08-BEFA-A9F86FCFDA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E9AC-6E60-447B-A1F4-8082182B42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F910-C7B9-40A5-89EB-AB8270FAAC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B06C-325B-4F89-B2E3-28C250DB4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CD53-AFFE-4165-B743-19F5E17C70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8CBE-F316-4AF2-B1D4-9A1ECB254B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90EB-6C58-42A0-8E7C-C28836324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6E81-1FCA-4025-8467-B076CDC0D7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C7DA-EE69-4B5D-93D5-14EFF988E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931B-C5F8-4F22-A47A-680E3A98DE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9231-E4A2-4EAF-9A03-6E169AEE4E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983A-D993-41C8-B41F-48A8B32E8A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10D6-99B4-42CA-85D0-F4CB9B08CE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254D-DC9B-4DCA-8C2E-E288945A7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9E08-4983-4E53-A062-E47124D4E9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A901-CB05-4A51-8A6D-32E10C6D17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1A6D-A4BA-4049-8F65-6F3E3FFB1C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F4A0-F3B5-4449-8ED6-358DFA05D4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931C-068F-4952-BADD-1743979029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95FD-9A17-4718-B4E9-AB5CB757B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A9EF-1A79-493F-BC55-0483153742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7600-B930-4DE9-AAF2-A76C7E808F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6CDD-BAE4-4588-BB8F-8C6DF4C07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D15-BD3C-4DEA-B2B7-A67D1EB54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ECC9-E0E2-48E8-86F4-BE4306B3A1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1249-F455-487D-8DA5-F350BE41D2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E688-078D-460A-AEC5-2B1B74B924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4C31-1C2B-4589-B1B9-9CC8825734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823B-4F47-4065-B394-76EAB35530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8A95-BD25-436B-BA91-3C65A4DCA1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C069-8658-470C-9999-84F2257167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9B8A-9B60-4116-8E9E-BFA8A7B04D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FAC6-064C-492B-B0C3-702C42DD67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6387-2911-4C21-AECB-7839E2921D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3ADA-96D7-42A5-9C1F-732C21E464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60360" y="3265560"/>
            <a:ext cx="838836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Picture 3" descr=""/>
          <p:cNvPicPr/>
          <p:nvPr/>
        </p:nvPicPr>
        <p:blipFill>
          <a:blip r:embed="rId1"/>
          <a:stretch/>
        </p:blipFill>
        <p:spPr>
          <a:xfrm>
            <a:off x="695160" y="774720"/>
            <a:ext cx="7753680" cy="60102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3" descr=""/>
          <p:cNvPicPr/>
          <p:nvPr/>
        </p:nvPicPr>
        <p:blipFill>
          <a:blip r:embed="rId2"/>
          <a:stretch/>
        </p:blipFill>
        <p:spPr>
          <a:xfrm>
            <a:off x="1547640" y="63817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"/>
          <p:cNvPicPr/>
          <p:nvPr/>
        </p:nvPicPr>
        <p:blipFill>
          <a:blip r:embed="rId3"/>
          <a:stretch/>
        </p:blipFill>
        <p:spPr>
          <a:xfrm>
            <a:off x="5148360" y="63039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762120" y="1747800"/>
            <a:ext cx="7619760" cy="33624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928880" y="4286160"/>
            <a:ext cx="2381040" cy="7905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5643720" y="4214880"/>
            <a:ext cx="30002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1262160" y="1190520"/>
            <a:ext cx="6619680" cy="5191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1785960" y="2879640"/>
            <a:ext cx="2552760" cy="885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3"/>
          <a:stretch/>
        </p:blipFill>
        <p:spPr>
          <a:xfrm>
            <a:off x="5643720" y="2928960"/>
            <a:ext cx="2714400" cy="838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6" descr=""/>
          <p:cNvPicPr/>
          <p:nvPr/>
        </p:nvPicPr>
        <p:blipFill>
          <a:blip r:embed="rId4"/>
          <a:stretch/>
        </p:blipFill>
        <p:spPr>
          <a:xfrm>
            <a:off x="1785960" y="5572080"/>
            <a:ext cx="41623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077320" cy="5505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1836720" y="1773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3"/>
          <a:stretch/>
        </p:blipFill>
        <p:spPr>
          <a:xfrm>
            <a:off x="1763640" y="2997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5"/>
          <a:stretch/>
        </p:blipFill>
        <p:spPr>
          <a:xfrm>
            <a:off x="1835280" y="53737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509760" y="1158840"/>
            <a:ext cx="8124480" cy="4934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1908000" y="315108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3564000" y="314172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4"/>
          <a:stretch/>
        </p:blipFill>
        <p:spPr>
          <a:xfrm>
            <a:off x="2050920" y="554832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5"/>
          <a:stretch/>
        </p:blipFill>
        <p:spPr>
          <a:xfrm>
            <a:off x="3780000" y="554832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6"/>
          <a:stretch/>
        </p:blipFill>
        <p:spPr>
          <a:xfrm>
            <a:off x="5334120" y="5548320"/>
            <a:ext cx="1008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419960" cy="3533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2" descr=""/>
          <p:cNvPicPr/>
          <p:nvPr/>
        </p:nvPicPr>
        <p:blipFill>
          <a:blip r:embed="rId2"/>
          <a:stretch/>
        </p:blipFill>
        <p:spPr>
          <a:xfrm>
            <a:off x="1020600" y="4867200"/>
            <a:ext cx="7296480" cy="16574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3"/>
          <a:stretch/>
        </p:blipFill>
        <p:spPr>
          <a:xfrm>
            <a:off x="1763640" y="223524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4"/>
          <a:stretch/>
        </p:blipFill>
        <p:spPr>
          <a:xfrm>
            <a:off x="3419640" y="224964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5"/>
          <a:stretch/>
        </p:blipFill>
        <p:spPr>
          <a:xfrm>
            <a:off x="5148360" y="223992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6"/>
          <a:stretch/>
        </p:blipFill>
        <p:spPr>
          <a:xfrm>
            <a:off x="1692360" y="3438360"/>
            <a:ext cx="1008000" cy="438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7"/>
          <a:stretch/>
        </p:blipFill>
        <p:spPr>
          <a:xfrm>
            <a:off x="3348000" y="345456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8"/>
          <a:stretch/>
        </p:blipFill>
        <p:spPr>
          <a:xfrm>
            <a:off x="5724360" y="345456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9"/>
          <a:stretch/>
        </p:blipFill>
        <p:spPr>
          <a:xfrm>
            <a:off x="1619280" y="544500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10"/>
          <a:stretch/>
        </p:blipFill>
        <p:spPr>
          <a:xfrm>
            <a:off x="3132000" y="544500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11"/>
          <a:stretch/>
        </p:blipFill>
        <p:spPr>
          <a:xfrm>
            <a:off x="5364000" y="544500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12"/>
          <a:stretch/>
        </p:blipFill>
        <p:spPr>
          <a:xfrm>
            <a:off x="2556000" y="6035760"/>
            <a:ext cx="187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509760" y="1042920"/>
            <a:ext cx="8124480" cy="47721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3"/>
          <a:stretch/>
        </p:blipFill>
        <p:spPr>
          <a:xfrm>
            <a:off x="1692360" y="291924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4"/>
          <a:stretch/>
        </p:blipFill>
        <p:spPr>
          <a:xfrm>
            <a:off x="1763640" y="34956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5"/>
          <a:stretch/>
        </p:blipFill>
        <p:spPr>
          <a:xfrm>
            <a:off x="1763640" y="46530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952560" y="1681200"/>
            <a:ext cx="72388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Picture 1" descr=""/>
          <p:cNvPicPr/>
          <p:nvPr/>
        </p:nvPicPr>
        <p:blipFill>
          <a:blip r:embed="rId1"/>
          <a:stretch/>
        </p:blipFill>
        <p:spPr>
          <a:xfrm>
            <a:off x="528480" y="836640"/>
            <a:ext cx="80870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2:3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